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74C-0214-450D-9842-357B6A4B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39F-A221-41AE-9219-DC324949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48D-C191-4ACA-B67D-558F686E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399-7740-45A5-BED8-D3EB6AB1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59A-78C2-4515-B135-CF0C2D9B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BF6-EBFA-4444-9386-50F82867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671-9037-43B9-9F57-BF543038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436-BCCF-4D8A-8CAB-026808A6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886-F289-4962-B964-2D39EAAA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EFD-3564-46BF-A093-EC293FBF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005-7EE7-42AA-905A-66D6F0CD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C6A-17A6-4D4B-9A72-4932DDB8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A681-DF97-48D8-99D9-2C3603969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8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9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1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4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MPj04387050000[1]"/>
          <p:cNvPicPr/>
          <p:nvPr/>
        </p:nvPicPr>
        <p:blipFill>
          <a:blip r:embed="rId2"/>
          <a:stretch/>
        </p:blipFill>
        <p:spPr>
          <a:xfrm>
            <a:off x="2311560" y="838080"/>
            <a:ext cx="8534160" cy="4953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 flipV="1">
            <a:off x="6334200" y="647784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473120" y="6705720"/>
            <a:ext cx="931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 tuned for the next session where we will expl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chart bui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urce libr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methean web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8:11:51Z</dcterms:created>
  <dc:creator>margaret.lindler</dc:creator>
  <dc:description/>
  <dc:language>en-US</dc:language>
  <cp:lastModifiedBy>Connie White</cp:lastModifiedBy>
  <dcterms:modified xsi:type="dcterms:W3CDTF">2008-07-24T20:33:15Z</dcterms:modified>
  <cp:revision>2</cp:revision>
  <dc:subject/>
  <dc:title>Slide 1</dc:title>
</cp:coreProperties>
</file>